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28F-9A6C-418D-826F-9DD8E68E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09C-0210-4C13-8357-947EF2C8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521-C19F-48FC-8B03-EE2E9D61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8E7-C33C-474B-9301-9F335460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002-27D2-4444-8E02-43AFF468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AA1-64F8-4825-9A8D-1006AEBC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0F7-CC29-4D95-91A0-6B8A9744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6AB-4B1C-415A-B3FF-688C5D2E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EBF-254A-45DA-9481-1AE891B2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B09-6484-4C3A-B048-EBBA17E7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0C8-BAD3-47CF-A112-5955BC41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1C1-8846-4981-9B91-0C93FADB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8C6E-E0C5-4760-B5CC-27BF289B8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24120" y="6019920"/>
            <a:ext cx="2806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at the NESCent GMO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Januar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480" y="21337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tic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10120" y="2133720"/>
            <a:ext cx="571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tic/phenotypic interactions in genotypic/environmental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63844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840" y="25621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quence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9400" y="2587680"/>
            <a:ext cx="54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ical sequences and objects which can be localized o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067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840" y="29908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p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8680" y="3013200"/>
            <a:ext cx="49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non-sequence loc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4956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0" y="341964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ression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7240" y="3436920"/>
            <a:ext cx="34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cript and protein expression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924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920" y="384804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nalysi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9040" y="38624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in-silic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352760"/>
            <a:ext cx="22860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560" y="42768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5080" y="4287960"/>
            <a:ext cx="33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d vocabularies and ont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781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840" y="47052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anism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6880" y="4711680"/>
            <a:ext cx="28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xonomy / specie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210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0" y="513396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120" y="5137200"/>
            <a:ext cx="37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ation / Biblio / Referenc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638680"/>
            <a:ext cx="22860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5627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3000" y="5562720"/>
            <a:ext cx="40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l information / database cross-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4" idx="7"/>
            <a:endCxn id="73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6" idx="7"/>
            <a:endCxn id="73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8" idx="7"/>
            <a:endCxn id="7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5"/>
            <a:endCxn id="74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8" idx="6"/>
            <a:endCxn id="7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78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0" idx="0"/>
            <a:endCxn id="73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0" idx="1"/>
            <a:endCxn id="76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6" idx="7"/>
            <a:endCxn id="80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5"/>
            <a:endCxn id="74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7"/>
            <a:endCxn id="78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2"/>
            <a:endCxn id="80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5"/>
            <a:endCxn id="74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3" idx="1"/>
            <a:endCxn id="80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0"/>
            <a:endCxn id="78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6"/>
            <a:endCxn id="78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3"/>
            <a:endCxn id="80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-468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5181480"/>
            <a:ext cx="1143000" cy="1617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4419720"/>
            <a:ext cx="1295280" cy="838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60480"/>
            <a:ext cx="1143000" cy="777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12189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2286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1219320"/>
            <a:ext cx="121932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267080"/>
            <a:ext cx="121932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4876920"/>
            <a:ext cx="1143000" cy="533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581280"/>
            <a:ext cx="914400" cy="7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133720"/>
            <a:ext cx="106668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286000"/>
            <a:ext cx="190512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04920"/>
            <a:ext cx="129564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0"/>
            <a:ext cx="114300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286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property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as many attributes as possible into propert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roperty types with controlled voc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properties to 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p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1"/>
            <a:endCxn id="131" idx="3"/>
          </p:cNvCxnSpPr>
          <p:nvPr/>
        </p:nvCxnSpPr>
        <p:spPr>
          <a:xfrm flipH="1">
            <a:off x="6171480" y="335232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617220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rd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0666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2" idx="0"/>
            <a:endCxn id="135" idx="2"/>
          </p:cNvCxnSpPr>
          <p:nvPr/>
        </p:nvCxnSpPr>
        <p:spPr>
          <a:xfrm flipV="1">
            <a:off x="7924320" y="19807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924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48006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2" idx="2"/>
            <a:endCxn id="138" idx="0"/>
          </p:cNvCxnSpPr>
          <p:nvPr/>
        </p:nvCxnSpPr>
        <p:spPr>
          <a:xfrm>
            <a:off x="7924320" y="38098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6294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y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relationship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 controlled vocabularies  for  relationship types makes customization and extension possible without altering the 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lationshp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1"/>
            <a:endCxn id="143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3"/>
            <a:endCxn id="143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4100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4" idx="0"/>
            <a:endCxn id="145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7010280" y="2666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ll Gelbart, FlyBase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schema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 Mungall (HHMI/BDGP/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in Wiel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nglei Zhou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brey de Gra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ll Gelbart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n Letovsk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doXML &amp; chado 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glei Zhou and Stan Let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operl chadoxml.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ili Zhang and Chris Mung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ME -&gt; chadoXML 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 Smut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FF3 -&gt; chado loa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 C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coln Stein (P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C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 Yandell (BDG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 Angiuoli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nnifer Wortman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en White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other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5297400" cy="3467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905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4:49:56Z</dcterms:created>
  <dc:creator>William M. Gelbart</dc:creator>
  <dc:description/>
  <dc:language>en-US</dc:language>
  <cp:lastModifiedBy>William M. Gelbart</cp:lastModifiedBy>
  <dcterms:modified xsi:type="dcterms:W3CDTF">2006-01-20T05:05:47Z</dcterms:modified>
  <cp:revision>4</cp:revision>
  <dc:subject/>
  <dc:title>Chado modules</dc:title>
</cp:coreProperties>
</file>